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8FB2E-5A06-450A-9FB7-CF551359B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17CF7-D3AF-4567-B96B-6E3AD5E9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B5879-028B-4A95-8432-D3062A423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2452A-50DD-454C-BEEF-3CEDC5084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097B-9F22-4576-B2A2-819542BB4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8928E-02BA-4BAB-927C-A2E28645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1AB9-CBAA-46D1-891F-021735BC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46DA-4DD8-48F4-95C4-485F35FB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8743-FBF4-4A21-B513-57A3C2CF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03B5-4001-4173-BC88-8A4E7621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493CA-CE40-457C-9E64-F5B67997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C9226-4887-42C6-9B6D-103854AF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3722-4490-49DC-8203-AB7CE546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B44D-6553-459B-A1C9-4E85D924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447D1-1EA2-4CA5-8A30-A351A94F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B423-F756-4A0D-9B0A-17AEF395E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BC7A-3024-4D50-91A2-70A66DEBC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6B5A6-2DD8-48DB-A28E-939A2AD3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B679F-F6A4-46A1-AAAF-5BC4DE2C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F8FB9-1214-4B1A-A740-8F98F593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F1362-DC00-43D6-BB77-39155C17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53D7F-2468-4111-9EB4-F2FBB7B7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71235-1D4C-4033-BAAE-302F4BC6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96C86-A86D-4143-B70C-44E81D2A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249600"/>
            <a:ext cx="21319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53CBDB1-E00E-41E8-90F5-3DE21D5725C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39320" cy="6848640"/>
            <a:chOff x="0" y="0"/>
            <a:chExt cx="9139320" cy="6848640"/>
          </a:xfrm>
        </p:grpSpPr>
        <p:grpSp>
          <p:nvGrpSpPr>
            <p:cNvPr id="3" name=""/>
            <p:cNvGrpSpPr/>
            <p:nvPr/>
          </p:nvGrpSpPr>
          <p:grpSpPr>
            <a:xfrm>
              <a:off x="2742480" y="3540240"/>
              <a:ext cx="6390000" cy="3308400"/>
              <a:chOff x="2742480" y="3540240"/>
              <a:chExt cx="6390000" cy="3308400"/>
            </a:xfrm>
          </p:grpSpPr>
          <p:sp>
            <p:nvSpPr>
              <p:cNvPr id="4" name=""/>
              <p:cNvSpPr/>
              <p:nvPr/>
            </p:nvSpPr>
            <p:spPr>
              <a:xfrm>
                <a:off x="2742480" y="4196880"/>
                <a:ext cx="4573080" cy="265140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17520" y="4239720"/>
                <a:ext cx="1997280" cy="128700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1880" y="5310720"/>
                <a:ext cx="4520880" cy="153756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1040" y="3540240"/>
                <a:ext cx="4771440" cy="330840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2760" y="3677760"/>
                <a:ext cx="1980000" cy="85500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c85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2560" y="2128680"/>
              <a:ext cx="289656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1"/>
                </a:gs>
                <a:gs pos="100000">
                  <a:srgbClr val="00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3932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3720" y="624852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39320" cy="6848640"/>
            <a:chOff x="0" y="0"/>
            <a:chExt cx="9139320" cy="6848640"/>
          </a:xfrm>
        </p:grpSpPr>
        <p:grpSp>
          <p:nvGrpSpPr>
            <p:cNvPr id="51" name=""/>
            <p:cNvGrpSpPr/>
            <p:nvPr/>
          </p:nvGrpSpPr>
          <p:grpSpPr>
            <a:xfrm>
              <a:off x="2742480" y="3540240"/>
              <a:ext cx="6390000" cy="3308400"/>
              <a:chOff x="2742480" y="3540240"/>
              <a:chExt cx="6390000" cy="3308400"/>
            </a:xfrm>
          </p:grpSpPr>
          <p:sp>
            <p:nvSpPr>
              <p:cNvPr id="52" name=""/>
              <p:cNvSpPr/>
              <p:nvPr/>
            </p:nvSpPr>
            <p:spPr>
              <a:xfrm>
                <a:off x="2742480" y="4196880"/>
                <a:ext cx="4573080" cy="265140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17520" y="4239720"/>
                <a:ext cx="1997280" cy="128700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1880" y="5310720"/>
                <a:ext cx="4520880" cy="153756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1040" y="3540240"/>
                <a:ext cx="4771440" cy="330840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2760" y="3677760"/>
                <a:ext cx="1980000" cy="85500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c85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2560" y="2128680"/>
              <a:ext cx="289656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1"/>
                </a:gs>
                <a:gs pos="100000">
                  <a:srgbClr val="00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3932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096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7200" y="624852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3720" y="6249600"/>
            <a:ext cx="2894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320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503DBB9-74DF-4A3E-B998-A09955BA319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8440"/>
            <a:ext cx="7702560" cy="42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Анализ, воспроизведение и преобразование реальных предметов и их признаков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716000" y="4581360"/>
            <a:ext cx="409572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 u="sng">
                <a:solidFill>
                  <a:srgbClr val="ffffff"/>
                </a:solidFill>
                <a:uFillTx/>
                <a:latin typeface="Garamond"/>
              </a:rPr>
              <a:t>Выполнили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ажина Диан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Чупрова Анн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ороленко Юл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Шарапова Валер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 u="sng">
                <a:solidFill>
                  <a:srgbClr val="ffffff"/>
                </a:solidFill>
                <a:uFillTx/>
                <a:latin typeface="Garamond"/>
              </a:rPr>
              <a:t>Руководитель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Габова М.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42440"/>
            <a:ext cx="8183520" cy="61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993366"/>
                </a:solidFill>
                <a:latin typeface="Times New Roman"/>
              </a:rPr>
              <a:t>Задание №2.</a:t>
            </a:r>
            <a:br>
              <a:rPr sz="1200"/>
            </a:br>
            <a:r>
              <a:rPr b="0" lang="en-US" sz="1400" spc="-1" strike="noStrike">
                <a:solidFill>
                  <a:srgbClr val="993366"/>
                </a:solidFill>
                <a:latin typeface="Times New Roman"/>
              </a:rPr>
              <a:t>Ц</a:t>
            </a:r>
            <a:r>
              <a:rPr b="1" lang="ru-RU" sz="2200" spc="-1" strike="noStrike">
                <a:solidFill>
                  <a:srgbClr val="993366"/>
                </a:solidFill>
                <a:latin typeface="Garamond"/>
              </a:rPr>
              <a:t>ель:</a:t>
            </a:r>
            <a:r>
              <a:rPr b="1" lang="ru-RU" sz="2200" spc="-1" strike="noStrike">
                <a:solidFill>
                  <a:srgbClr val="e5e5ff"/>
                </a:solidFill>
                <a:latin typeface="Garamond"/>
              </a:rPr>
              <a:t> выявить умение называть форму и величину геометрических фигур.</a:t>
            </a:r>
            <a:br>
              <a:rPr sz="2200"/>
            </a:br>
            <a:r>
              <a:rPr b="1" lang="ru-RU" sz="2200" spc="-1" strike="noStrike">
                <a:solidFill>
                  <a:srgbClr val="993366"/>
                </a:solidFill>
                <a:latin typeface="Garamond"/>
              </a:rPr>
              <a:t>Описание: </a:t>
            </a:r>
            <a:r>
              <a:rPr b="1" lang="ru-RU" sz="2200" spc="-1" strike="noStrike">
                <a:solidFill>
                  <a:srgbClr val="e5e5ff"/>
                </a:solidFill>
                <a:latin typeface="Garamond"/>
              </a:rPr>
              <a:t>ребёнку предлагается выложенные на столах геометрические фигуры различной величины (большой, поменьше, маленький) и формы (круг, треугольник, квадрат, трапеция...)</a:t>
            </a:r>
            <a:br>
              <a:rPr sz="2200"/>
            </a:br>
            <a:r>
              <a:rPr b="1" lang="ru-RU" sz="2200" spc="-1" strike="noStrike">
                <a:solidFill>
                  <a:srgbClr val="993366"/>
                </a:solidFill>
                <a:latin typeface="Garamond"/>
              </a:rPr>
              <a:t>Материал: </a:t>
            </a:r>
            <a:r>
              <a:rPr b="1" lang="ru-RU" sz="2200" spc="-1" strike="noStrike">
                <a:solidFill>
                  <a:srgbClr val="e5e5ff"/>
                </a:solidFill>
                <a:latin typeface="Garamond"/>
              </a:rPr>
              <a:t>объёмные геометрические фигуры различной формы и фигуры.</a:t>
            </a:r>
            <a:br>
              <a:rPr sz="2200"/>
            </a:br>
            <a:r>
              <a:rPr b="1" lang="ru-RU" sz="2200" spc="-1" strike="noStrike">
                <a:solidFill>
                  <a:srgbClr val="993366"/>
                </a:solidFill>
                <a:latin typeface="Garamond"/>
              </a:rPr>
              <a:t>Инструкция: </a:t>
            </a:r>
            <a:r>
              <a:rPr b="1" lang="ru-RU" sz="2200" spc="-1" strike="noStrike">
                <a:solidFill>
                  <a:srgbClr val="e5e5ff"/>
                </a:solidFill>
                <a:latin typeface="Garamond"/>
              </a:rPr>
              <a:t>«Посмотри и назови, какая геометрическая фигура пропущена в этом ряду? Какая она по форме и по величине?» (Аналогично работа проводится в следующих рядах).</a:t>
            </a:r>
            <a:br>
              <a:rPr sz="2200"/>
            </a:br>
            <a:r>
              <a:rPr b="1" lang="ru-RU" sz="2200" spc="-1" strike="noStrike">
                <a:solidFill>
                  <a:srgbClr val="993366"/>
                </a:solidFill>
                <a:latin typeface="Garamond"/>
              </a:rPr>
              <a:t>Баллы:</a:t>
            </a:r>
            <a:r>
              <a:rPr b="1" lang="ru-RU" sz="2200" spc="-1" strike="noStrike">
                <a:solidFill>
                  <a:srgbClr val="e5e5ff"/>
                </a:solidFill>
                <a:latin typeface="Garamond"/>
              </a:rPr>
              <a:t> 3 балла – ребёнок не допускает ошибок, самостоятельно выполняет задание.</a:t>
            </a:r>
            <a:br>
              <a:rPr sz="2200"/>
            </a:br>
            <a:r>
              <a:rPr b="1" lang="ru-RU" sz="2200" spc="-1" strike="noStrike">
                <a:solidFill>
                  <a:srgbClr val="e5e5ff"/>
                </a:solidFill>
                <a:latin typeface="Garamond"/>
              </a:rPr>
              <a:t>               </a:t>
            </a:r>
            <a:r>
              <a:rPr b="0" lang="en-US" sz="2200" spc="-1" strike="noStrike">
                <a:solidFill>
                  <a:srgbClr val="e5e5ff"/>
                </a:solidFill>
                <a:latin typeface="Times New Roman"/>
              </a:rPr>
              <a:t>2 балла - допускает 1-2 ошибки, но исправляет самостоятельно.</a:t>
            </a:r>
            <a:br>
              <a:rPr sz="2200"/>
            </a:br>
            <a:r>
              <a:rPr b="1" lang="ru-RU" sz="2200" spc="-1" strike="noStrike">
                <a:solidFill>
                  <a:srgbClr val="e5e5ff"/>
                </a:solidFill>
                <a:latin typeface="Garamond"/>
              </a:rPr>
              <a:t>               </a:t>
            </a:r>
            <a:r>
              <a:rPr b="0" lang="en-US" sz="2200" spc="-1" strike="noStrike">
                <a:solidFill>
                  <a:srgbClr val="e5e5ff"/>
                </a:solidFill>
                <a:latin typeface="Times New Roman"/>
              </a:rPr>
              <a:t>1 балл – исправляет ошибки с помощью воспитателя.</a:t>
            </a:r>
            <a:endParaRPr b="1" lang="en-US" sz="2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0360" y="22320"/>
            <a:ext cx="8229600" cy="75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993366"/>
                </a:solidFill>
                <a:latin typeface="Times New Roman"/>
              </a:rPr>
              <a:t>Задание №3.</a:t>
            </a:r>
            <a:br>
              <a:rPr sz="2000"/>
            </a:br>
            <a:r>
              <a:rPr b="1" lang="ru-RU" sz="2000" spc="-1" strike="noStrike">
                <a:solidFill>
                  <a:srgbClr val="993366"/>
                </a:solidFill>
                <a:latin typeface="Garamond"/>
              </a:rPr>
              <a:t>Цель: </a:t>
            </a: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выявить умение соотносить геометрические тела с реальными предметами по форме.</a:t>
            </a:r>
            <a:br>
              <a:rPr sz="2000"/>
            </a:br>
            <a:r>
              <a:rPr b="1" lang="ru-RU" sz="2000" spc="-1" strike="noStrike">
                <a:solidFill>
                  <a:srgbClr val="993366"/>
                </a:solidFill>
                <a:latin typeface="Garamond"/>
              </a:rPr>
              <a:t>Описание: </a:t>
            </a: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ребёнку предлагается набор различных геометрических фигур и набор различных предметов. Ребёнок должен найти каждому геометрическому телу похожий на него предмет.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Материал: </a:t>
            </a: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набор геометрических фигур и набор различных предметов.</a:t>
            </a:r>
            <a:br>
              <a:rPr sz="2000"/>
            </a:br>
            <a:r>
              <a:rPr b="1" lang="ru-RU" sz="2000" spc="-1" strike="noStrike">
                <a:solidFill>
                  <a:srgbClr val="993366"/>
                </a:solidFill>
                <a:latin typeface="Garamond"/>
              </a:rPr>
              <a:t>Инструкция: </a:t>
            </a: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«Внимательно посмотри и соедини геометрические тела с похожими на них  по форме предметами.»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                                           </a:t>
            </a:r>
            <a:r>
              <a:rPr b="1" lang="ru-RU" sz="2400" spc="-1" strike="noStrike">
                <a:solidFill>
                  <a:srgbClr val="993366"/>
                </a:solidFill>
                <a:latin typeface="Garamond"/>
              </a:rPr>
              <a:t>Уровни:</a:t>
            </a:r>
            <a:br>
              <a:rPr sz="2000"/>
            </a:br>
            <a:r>
              <a:rPr b="1" lang="ru-RU" sz="2000" spc="-1" strike="noStrike">
                <a:solidFill>
                  <a:srgbClr val="99284c"/>
                </a:solidFill>
                <a:latin typeface="Garamond"/>
              </a:rPr>
              <a:t>Высокий: </a:t>
            </a: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ребёнок самостоятельно выполняет задания, не допуская ошибок. Даёт детальную, обоснованную оценку своему решению. Проявляет устойчивый интерес к деятельности.</a:t>
            </a:r>
            <a:br>
              <a:rPr sz="2000"/>
            </a:br>
            <a:r>
              <a:rPr b="1" lang="ru-RU" sz="2000" spc="-1" strike="noStrike">
                <a:solidFill>
                  <a:srgbClr val="993366"/>
                </a:solidFill>
                <a:latin typeface="Garamond"/>
              </a:rPr>
              <a:t>Средний:</a:t>
            </a: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 ребёнок в заданиях допускает незначительные ошибки, самостоятельно исправляет их. Испытывает положительное отношение к выполняемой деятельности.</a:t>
            </a:r>
            <a:br>
              <a:rPr sz="2000"/>
            </a:br>
            <a:r>
              <a:rPr b="1" lang="ru-RU" sz="2000" spc="-1" strike="noStrike">
                <a:solidFill>
                  <a:srgbClr val="993366"/>
                </a:solidFill>
                <a:latin typeface="Garamond"/>
              </a:rPr>
              <a:t>Низкий: </a:t>
            </a: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ребёнок может выполнить задания или выполняет неправильно, исправляя ошибки только с помощью воспитателя. Не проявляет никакого интереса к деятельности. 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d0a05"/>
                </a:solidFill>
                <a:latin typeface="Garamond"/>
              </a:rPr>
              <a:t>Содержание развивающей сред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893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Garamond"/>
              </a:rPr>
              <a:t>1.Интеллектуально познавательная  зона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едметы для различения на ощуп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онструкторы для индивидуальной работ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озайки разных вид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ид.игры («Подбери пару» и т.п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ид. Игрушки(доска –вкладыш и т.п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Блоки Дъенеша, палочки Кьюзенера, геокон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625320"/>
            <a:ext cx="8458200" cy="34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2. Зона самостоятельной изо деятельности:</a:t>
            </a:r>
            <a:br>
              <a:rPr sz="4400"/>
            </a:b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755640" y="2708280"/>
            <a:ext cx="7848720" cy="33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Чистая бумага, цветные карандаши и фломастер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кварельные краски, восковые мелк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исти, банки для воды, тряпочк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ластилин или глина, подставки для работ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Шаблоны, макеты, народные игрушк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3. Игровая зона: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25640"/>
            <a:ext cx="822960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зличные строительные материал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ягкие игрушки, машины, куклы разного размер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бор посуды, мебель, одежд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d0a05"/>
                </a:solidFill>
                <a:latin typeface="Garamond"/>
              </a:rPr>
              <a:t>Вывод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7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ля обогащения представлений ребенка о свойствах предметов необходимо, чтобы он знакомился с разновидностями этих свойств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7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  форма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7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  величин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7080" indent="-307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цвет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7080" indent="-307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ложение в пространстве, а также запахе, вкусе и т.п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7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ыполняя действия, требующие их учет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plit dir="in" orient="vert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d0a05"/>
                </a:solidFill>
                <a:latin typeface="Garamond"/>
              </a:rPr>
              <a:t>Рекомендации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89800" indent="-289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читывая возраст детей, целесообразно проводить игры в соревновательной форм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980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9800" indent="-289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ля повышения интереса к играм можно «награждать» детей за верный отве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980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9800" indent="-289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ходе освоения игр совместно придумывать новые варианты игровых ситуаци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plit dir="in" orient="vert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822960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Источники: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78920" y="1260000"/>
            <a:ext cx="885348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Венгер Л.А. и другие. Воспитание сенсорной культуры ребёнка от рождения до 6 лет: Книга для воспитателя детского сада, М.: Просвещение, 1988. – 144 с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илюгина Э.Г. Знакомство детей с величиной, формой и цветом.// Дошкольное воспитание. – 1982. - №7. – с.25-33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Дидактические игры и упражнения по сенсорному воспитанию дошкольников. Пособие для воспитателя детского сада. // Под редакцией Л.А. Венгер. – М.: Просвещение, 1987. – 96 с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Мухина В.С. Возрастная психология: феноменология развития, детство, отрочество: Учебник для студентов вузов, - М.: Издательский центр «Академия», 2002. – 456 с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5.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Лямина Г. Что дальше? Дошкольное воспитание// – 2005. - №9. – с. 91-99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Лукьянова А.В. Задачки весёлого карандаша. Тетрадь по математике для дошкольник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Волкова С.И., Столярова Н.Н. Математика: Подготовка к обучению. – Псков: ПОИПКРО, М.: ИОСО, 1988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8.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Гаврина С.Е., Кутявина Н.Л. Волшебные фигуры. Геометрия для дошкольников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9.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Колесникова Е.В. Цвет и форма. Линейки – трафареты. – М.: 2002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266760"/>
            <a:ext cx="8229600" cy="63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e5e5ff"/>
                </a:solidFill>
                <a:latin typeface="Garamond"/>
              </a:rPr>
              <a:t>10. Рочева О.И., Кравцова Н.В. Шпаргалки на каждый день. Методика математического развития детей дошкольного возраста. – Сыктывкар 2006.</a:t>
            </a:r>
            <a:br>
              <a:rPr sz="1800"/>
            </a:br>
            <a:r>
              <a:rPr b="1" lang="ru-RU" sz="1800" spc="-1" strike="noStrike">
                <a:solidFill>
                  <a:srgbClr val="e5e5ff"/>
                </a:solidFill>
                <a:latin typeface="Garamond"/>
              </a:rPr>
              <a:t>11. Степанова О.А. Программа развития зрительного восприятия и памяти, зрительного анализа и синтеза и коррекции их недостатков.// Начальная школа. – 2004. - №2. С. 59-63.</a:t>
            </a:r>
            <a:br>
              <a:rPr sz="1800"/>
            </a:br>
            <a:r>
              <a:rPr b="1" lang="ru-RU" sz="1800" spc="-1" strike="noStrike">
                <a:solidFill>
                  <a:srgbClr val="e5e5ff"/>
                </a:solidFill>
                <a:latin typeface="Garamond"/>
              </a:rPr>
              <a:t>12. Альтхауз Д., Дум Э. Цвет, форма, количество, - М.: 1984.</a:t>
            </a:r>
            <a:br>
              <a:rPr sz="1800"/>
            </a:br>
            <a:r>
              <a:rPr b="1" lang="ru-RU" sz="1800" spc="-1" strike="noStrike">
                <a:solidFill>
                  <a:srgbClr val="e5e5ff"/>
                </a:solidFill>
                <a:latin typeface="Garamond"/>
              </a:rPr>
              <a:t>13. Дошкольный возраст: формирование и развитие математических способностей.// Дошкольное воспитание. – 2000. - №2.</a:t>
            </a:r>
            <a:br>
              <a:rPr sz="1800"/>
            </a:br>
            <a:r>
              <a:rPr b="1" lang="ru-RU" sz="1800" spc="-1" strike="noStrike">
                <a:solidFill>
                  <a:srgbClr val="e5e5ff"/>
                </a:solidFill>
                <a:latin typeface="Garamond"/>
              </a:rPr>
              <a:t>14. Формирование математических способностей: пути и формы.// Ребёнок в детском саду, - 2001. - №1,2.</a:t>
            </a:r>
            <a:br>
              <a:rPr sz="1800"/>
            </a:br>
            <a:r>
              <a:rPr b="1" lang="ru-RU" sz="1800" spc="-1" strike="noStrike">
                <a:solidFill>
                  <a:srgbClr val="e5e5ff"/>
                </a:solidFill>
                <a:latin typeface="Garamond"/>
              </a:rPr>
              <a:t>15. О концепции математического развития дошкольнико. // Дошкольная педагогика. – 2002. - №6. 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8229600" cy="56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aramond"/>
              </a:rPr>
              <a:t>Спасибо за  внимание!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Актуальность заключается в сенсорном развитии ребенка, развитии восприятия и формирование представлений о внешних свойствах предметов на основе этого складывается вся дальнейшая работа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98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82240"/>
            <a:ext cx="882000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d0a05"/>
                </a:solidFill>
                <a:latin typeface="Garamond"/>
              </a:rPr>
              <a:t>Цель проекта</a:t>
            </a:r>
            <a:r>
              <a:rPr b="0" lang="ru-RU" sz="2800" spc="-1" strike="noStrike">
                <a:solidFill>
                  <a:srgbClr val="cd0a05"/>
                </a:solidFill>
                <a:latin typeface="Garamond"/>
              </a:rPr>
              <a:t> -</a:t>
            </a:r>
            <a:r>
              <a:rPr b="0" lang="ru-RU" sz="3200" spc="-1" strike="noStrike">
                <a:solidFill>
                  <a:srgbClr val="e5e5ff"/>
                </a:solidFill>
                <a:latin typeface="Garamond"/>
              </a:rPr>
              <a:t>поиск путей и способов обучения детей осуществлению анализа реальных предметов и их частей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5280" y="2060280"/>
            <a:ext cx="7929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4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d0a05"/>
                </a:solidFill>
                <a:latin typeface="Garamond"/>
              </a:rPr>
              <a:t>Задачи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4960" indent="-534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зучить и проанализировать литературу по проблеме осуществления анализа реальных предметов и их частей детьми старшего дошкольного возраст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4960" indent="-534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дбор дидактического материала по проблеме осуществления анализа реальных предметов и их част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4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4960" indent="0"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ll dir="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896480"/>
              </a:tabLst>
            </a:pPr>
            <a:r>
              <a:rPr b="1" lang="ru-RU" sz="4000" spc="-1" strike="noStrike" u="sng">
                <a:solidFill>
                  <a:srgbClr val="cd0a05"/>
                </a:solidFill>
                <a:uFillTx/>
                <a:latin typeface="Garamond"/>
              </a:rPr>
              <a:t>Возраст</a:t>
            </a:r>
            <a:r>
              <a:rPr b="1" lang="ru-RU" sz="4400" spc="-1" strike="noStrike">
                <a:solidFill>
                  <a:srgbClr val="cd0a05"/>
                </a:solidFill>
                <a:latin typeface="Garamond"/>
              </a:rPr>
              <a:t>:</a:t>
            </a: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старший дошкольный</a:t>
            </a:r>
            <a:br>
              <a:rPr sz="3200"/>
            </a:br>
            <a:br>
              <a:rPr sz="3200"/>
            </a:br>
            <a:r>
              <a:rPr b="1" lang="ru-RU" sz="3600" spc="-1" strike="noStrike" u="sng">
                <a:solidFill>
                  <a:srgbClr val="cd0a05"/>
                </a:solidFill>
                <a:uFillTx/>
                <a:latin typeface="Garamond"/>
              </a:rPr>
              <a:t>Программа</a:t>
            </a:r>
            <a:r>
              <a:rPr b="1" lang="ru-RU" sz="4000" spc="-1" strike="noStrike" u="sng">
                <a:solidFill>
                  <a:srgbClr val="cd0a05"/>
                </a:solidFill>
                <a:uFillTx/>
                <a:latin typeface="Garamond"/>
              </a:rPr>
              <a:t>:</a:t>
            </a: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 «Воспитание  и обучение в детском саду»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/</a:t>
            </a: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под ред. Васильевой М.А., Гербовой В.В., Комароой Т.С.</a:t>
            </a:r>
            <a:br>
              <a:rPr sz="2800"/>
            </a:br>
            <a:br>
              <a:rPr sz="2800"/>
            </a:br>
            <a:r>
              <a:rPr b="1" lang="ru-RU" sz="3600" spc="-1" strike="noStrike" u="sng">
                <a:solidFill>
                  <a:srgbClr val="cd0a05"/>
                </a:solidFill>
                <a:uFillTx/>
                <a:latin typeface="Garamond"/>
              </a:rPr>
              <a:t>Разделы:</a:t>
            </a:r>
            <a:br>
              <a:rPr sz="36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величина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ориентировка в пространстве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геометрическая фигур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push dir="l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d0a05"/>
                </a:solidFill>
                <a:latin typeface="Garamond"/>
              </a:rPr>
              <a:t>Принцип: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от простого к сложному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785440" cy="42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d0a05"/>
                </a:solidFill>
                <a:uFillTx/>
                <a:latin typeface="Garamond"/>
              </a:rPr>
              <a:t>Работа ведется в 3 этапа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1- уточнение и обогащение представлений о пространственных признаках окружающих объектов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иповые игры, упражнения и задания игрового характера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вести подробный анализ объектов (предметов, геометрических фигур разного размера, формы или их изображений) и вычленить главные, существенные признаки, которые отличаются один объект от другого или делают их сходными(«четвертый лишний», «назови самые непохожие фигуры», «дополни фрагмент»)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ыделить заданные формы в окружающих предметах или демонстрируемых педагогом рисунках, смоделировать геометрические формы(«сосчитай треугольники», «коллаж», «похоже или нет?», «составление фигур головоломок», «конструирование фигур»)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еобразовывать фигуры, буквы, цифры(«кто быстрее и точнее?»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392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Garamond"/>
              </a:rPr>
              <a:t>2- </a:t>
            </a:r>
            <a:r>
              <a:rPr b="0" lang="ru-RU" sz="2000" spc="-1" strike="noStrike">
                <a:solidFill>
                  <a:srgbClr val="ffcc00"/>
                </a:solidFill>
                <a:latin typeface="Garamond"/>
              </a:rPr>
              <a:t>уточнение и развитие представлений о схеме тела и направлениях пространства по отношению к себе (сначала в трех-, затем- в двухмерном пространстве)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392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3920" indent="-3139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точнить схему собственного тела, указать местоположение предметов в пространстве относительно себя («правый-левый», «пожайлуста», «что справа, что слева?», «Отвечай точно!», «ориентировка по памяти», «водители»)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3920" indent="-3139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пределить сторонность объектов, находящихся напротив; определить линейную последовательность предметного ряда, находящегося напротив(«покажи у товарища», «кто первый? кто последний?»)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3920" indent="-3139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бозначить направления графически; выполнить раскладку картинок, фигур, буквенно-цифрового материала в соответствии со словесной инструкцией(«стрелки», «заячьи дорожки», «пространственный диктант», «что получилось?»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392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Garamond"/>
              </a:rPr>
              <a:t>3- </a:t>
            </a:r>
            <a:r>
              <a:rPr b="0" lang="ru-RU" sz="2800" spc="-1" strike="noStrike">
                <a:solidFill>
                  <a:srgbClr val="ffcc00"/>
                </a:solidFill>
                <a:latin typeface="Garamond"/>
              </a:rPr>
              <a:t>уточнение и формирование полноценных представлений о пространственных отношениях объектов и их взаимном расположении( в трех- и двухмерном пространстве)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7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7600" indent="-327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пределить пространственные отношения предметов между собой; провести преобразования в расположении предметов относительно друг друга, выполнить рисунок(конструктивную поделку)по словесной инструкции или наглядно представленному образцу(«перестановки», «измени по образцу», «рисование по словесному описанию», «строители»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7600" indent="-327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вести ориентировку на основе предложенного плана(«план города»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362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Изложенная поэтапная схема поможет взрослым не только создать необходимую базу для формирования у детей полноценных навыков пространственной ориентации и на их основе- навыков чтения, письма, счета, но и сделать так , чтобы в конечном итоге сами пространственные представления и понятия способствовали дальнейшему росту познавательных способностей детей и были включены в учебную деятельность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push dir="r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4285">
                                          <p:val>
                                            <p:strVal val="#ppt_h/2"/>
                                          </p:val>
                                        </p:tav>
                                        <p:tav tm="28571">
                                          <p:val>
                                            <p:strVal val="#ppt_h"/>
                                          </p:val>
                                        </p:tav>
                                        <p:tav tm="42857">
                                          <p:val>
                                            <p:strVal val="#ppt_h/2"/>
                                          </p:val>
                                        </p:tav>
                                        <p:tav tm="57142">
                                          <p:val>
                                            <p:strVal val="#ppt_h"/>
                                          </p:val>
                                        </p:tav>
                                        <p:tav tm="71428">
                                          <p:val>
                                            <p:strVal val="#ppt_h/2"/>
                                          </p:val>
                                        </p:tav>
                                        <p:tav tm="85714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2500">
                                          <p:val>
                                            <p:strVal val="#ppt_y-.2"/>
                                          </p:val>
                                        </p:tav>
                                        <p:tav tm="25000">
                                          <p:val>
                                            <p:strVal val="#ppt_y"/>
                                          </p:val>
                                        </p:tav>
                                        <p:tav tm="375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2500">
                                          <p:val>
                                            <p:strVal val="#ppt_y-.1"/>
                                          </p:val>
                                        </p:tav>
                                        <p:tav tm="75000">
                                          <p:val>
                                            <p:strVal val="#ppt_y"/>
                                          </p:val>
                                        </p:tav>
                                        <p:tav tm="875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928000" cy="61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ff0000"/>
                </a:solidFill>
                <a:uFillTx/>
                <a:latin typeface="Garamond"/>
              </a:rPr>
              <a:t>Диагностика пространственных представлений у ребёнка.</a:t>
            </a:r>
            <a:br>
              <a:rPr sz="1800"/>
            </a:b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Цель: </a:t>
            </a: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выявить умение детей анализировать реальные предметы и их части.</a:t>
            </a:r>
            <a:br>
              <a:rPr sz="2400"/>
            </a:b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                                             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Задание №1.</a:t>
            </a:r>
            <a:br>
              <a:rPr sz="2400"/>
            </a:br>
            <a:r>
              <a:rPr b="1" lang="ru-RU" sz="2400" spc="-1" strike="noStrike">
                <a:solidFill>
                  <a:srgbClr val="993366"/>
                </a:solidFill>
                <a:latin typeface="Garamond"/>
              </a:rPr>
              <a:t>Цель:</a:t>
            </a: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 выявить умение называть предметы, находящи</a:t>
            </a:r>
            <a:r>
              <a:rPr b="1" lang="ru-RU" sz="2200" spc="-1" strike="noStrike">
                <a:solidFill>
                  <a:srgbClr val="e5e5ff"/>
                </a:solidFill>
                <a:latin typeface="Garamond"/>
              </a:rPr>
              <a:t>еся (справа, слева, сверху, внизу, спереди, сзади) от ребёнка.</a:t>
            </a:r>
            <a:br>
              <a:rPr sz="2200"/>
            </a:br>
            <a:r>
              <a:rPr b="1" lang="ru-RU" sz="2200" spc="-1" strike="noStrike">
                <a:solidFill>
                  <a:srgbClr val="993366"/>
                </a:solidFill>
                <a:latin typeface="Garamond"/>
              </a:rPr>
              <a:t>Описание:</a:t>
            </a:r>
            <a:r>
              <a:rPr b="1" lang="ru-RU" sz="2200" spc="-1" strike="noStrike">
                <a:solidFill>
                  <a:srgbClr val="e5e5ff"/>
                </a:solidFill>
                <a:latin typeface="Garamond"/>
              </a:rPr>
              <a:t> ребёнку предлагается назвать предметы, находящиеся справа,  слева, сверху,  внизу, спереди, сзади от него.</a:t>
            </a:r>
            <a:br>
              <a:rPr sz="2200"/>
            </a:br>
            <a:r>
              <a:rPr b="1" lang="ru-RU" sz="2200" spc="-1" strike="noStrike">
                <a:solidFill>
                  <a:srgbClr val="993366"/>
                </a:solidFill>
                <a:latin typeface="Garamond"/>
              </a:rPr>
              <a:t>Материал: </a:t>
            </a:r>
            <a:r>
              <a:rPr b="1" lang="ru-RU" sz="2200" spc="-1" strike="noStrike">
                <a:solidFill>
                  <a:srgbClr val="e5e5ff"/>
                </a:solidFill>
                <a:latin typeface="Garamond"/>
              </a:rPr>
              <a:t>предметы групповой комнаты.</a:t>
            </a:r>
            <a:br>
              <a:rPr sz="2200"/>
            </a:br>
            <a:r>
              <a:rPr b="1" lang="ru-RU" sz="2200" spc="-1" strike="noStrike">
                <a:solidFill>
                  <a:srgbClr val="993366"/>
                </a:solidFill>
                <a:latin typeface="Garamond"/>
              </a:rPr>
              <a:t>Инструкция: </a:t>
            </a:r>
            <a:r>
              <a:rPr b="1" lang="ru-RU" sz="2200" spc="-1" strike="noStrike">
                <a:solidFill>
                  <a:srgbClr val="e5e5ff"/>
                </a:solidFill>
                <a:latin typeface="Garamond"/>
              </a:rPr>
              <a:t>«Назови предмет, который находится справа, слева, сверху, внизу, спереди, сзади от тебя.</a:t>
            </a:r>
            <a:br>
              <a:rPr sz="2200"/>
            </a:br>
            <a:r>
              <a:rPr b="1" lang="ru-RU" sz="2200" spc="-1" strike="noStrike">
                <a:solidFill>
                  <a:srgbClr val="993366"/>
                </a:solidFill>
                <a:latin typeface="Garamond"/>
              </a:rPr>
              <a:t>Баллы: </a:t>
            </a:r>
            <a:r>
              <a:rPr b="1" lang="ru-RU" sz="2200" spc="-1" strike="noStrike">
                <a:solidFill>
                  <a:srgbClr val="e5e5ff"/>
                </a:solidFill>
                <a:latin typeface="Garamond"/>
              </a:rPr>
              <a:t>3 балла – ребёнок не допускает ошибок, самостоятельно выполняет задание.</a:t>
            </a:r>
            <a:br>
              <a:rPr sz="2200"/>
            </a:br>
            <a:r>
              <a:rPr b="1" lang="ru-RU" sz="2200" spc="-1" strike="noStrike">
                <a:solidFill>
                  <a:srgbClr val="e5e5ff"/>
                </a:solidFill>
                <a:latin typeface="Garamond"/>
              </a:rPr>
              <a:t>               </a:t>
            </a:r>
            <a:r>
              <a:rPr b="0" lang="en-US" sz="2200" spc="-1" strike="noStrike">
                <a:solidFill>
                  <a:srgbClr val="e5e5ff"/>
                </a:solidFill>
                <a:latin typeface="Times New Roman"/>
              </a:rPr>
              <a:t>2 балла - допускает 1-2 ошибки, но исправляет самостоятельно.</a:t>
            </a:r>
            <a:br>
              <a:rPr sz="2200"/>
            </a:br>
            <a:r>
              <a:rPr b="1" lang="ru-RU" sz="2200" spc="-1" strike="noStrike">
                <a:solidFill>
                  <a:srgbClr val="e5e5ff"/>
                </a:solidFill>
                <a:latin typeface="Garamond"/>
              </a:rPr>
              <a:t>               </a:t>
            </a:r>
            <a:r>
              <a:rPr b="0" lang="en-US" sz="2200" spc="-1" strike="noStrike">
                <a:solidFill>
                  <a:srgbClr val="e5e5ff"/>
                </a:solidFill>
                <a:latin typeface="Times New Roman"/>
              </a:rPr>
              <a:t>1 балл – исправляет ошибки с помощью восп</a:t>
            </a:r>
            <a:r>
              <a:rPr b="0" lang="en-US" sz="2400" spc="-1" strike="noStrike">
                <a:solidFill>
                  <a:srgbClr val="e5e5ff"/>
                </a:solidFill>
                <a:latin typeface="Times New Roman"/>
              </a:rPr>
              <a:t>итателя.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5:31:16Z</dcterms:created>
  <dc:creator>User</dc:creator>
  <dc:description/>
  <dc:language>en-US</dc:language>
  <cp:lastModifiedBy>Администратор</cp:lastModifiedBy>
  <dcterms:modified xsi:type="dcterms:W3CDTF">2010-03-09T09:29:52Z</dcterms:modified>
  <cp:revision>8</cp:revision>
  <dc:subject/>
  <dc:title>Анализ, воспроизведение и преобразование реальных предметов и их признаков</dc:title>
</cp:coreProperties>
</file>